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0A1-7755-432A-B654-CA4A9679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A83-15D1-4502-B50A-EB4D7F08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4A651-746E-4CF6-BE39-91526BAC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1BFA1-053B-49B5-BD7F-533C03EF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6D2E1-9B6C-487C-8B82-CB03710C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9FAB1-DC99-4532-A315-F693BF1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5ABA4-4F47-448E-B24A-F564C657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1E7C7-F006-4452-ADCC-1E45A065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89DBC-3CEB-480D-97F4-33340230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BD6B0-5011-4912-8015-711AAC96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532E9-CEB0-48DB-A0FE-C2F07C54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7BADE-7458-4E7D-9F5C-964567E9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456-C22F-4108-BFE3-2C7FF8DB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71C0D-D15E-4859-882D-6D96A596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9D720-050A-4BFB-A08D-ABF7D578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2EBC6-933F-44C6-9B93-31B4BC35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2F3A3-2521-4D2C-9972-58F98BF9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67204-3430-4FF0-BEF5-0394D322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DAAEA-E721-40BD-8099-775DDA50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A56E9-8D5F-4419-B9E0-44F050C7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79F09-55F5-4D66-A4FD-C9FBDC3F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35B5D-B69A-4007-BAFF-6F35445E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17E28-6176-4E24-8296-92E03B5A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F9D-1F26-4E06-96BE-3346646B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E4D34-9453-4B8C-97FC-8942B9E9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EC791-5CE8-433B-ABA1-95FF47EF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289A0-0AC2-4DCE-961C-385BDBF4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BD05A-071E-415A-A8F5-A5541CB1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7A559-230E-4F7B-B9F3-039CE4EA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F16CA-5B92-4F28-9A4C-718A5F09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4DCCE-682F-4C56-B0F1-235673CB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82A57-16AA-4659-82EC-CCEE5A1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A440D-C137-4C31-AFB7-6348722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1FB9A-FA22-4E96-950B-BC2923E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D607E-7BEB-4FBD-8EAB-01EFE7A3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A2BBA-C0E1-4BEC-9501-E76936D1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FF496-50C3-4026-A081-3E2C68E8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A5892-AB74-4DEC-86B9-E30B8373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34630-D3C5-4C2A-B2F8-93DA3438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BF950-8BE5-46B9-98EA-108DEFD2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F2606-81BE-416B-88E9-9C9B38B5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A624B-67A3-4D99-94B0-7EB3912B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4D1EE-5A8C-40DB-B59A-40B5FD37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BF1E2-5841-4714-961A-6F806B62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7C5E5-57FA-4B9A-A38C-52A12CB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5B4CE-7750-414C-AEBD-6C95D6D1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30696-778E-46A7-B52A-CA5DE319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24D36-66A5-41B8-B00E-0D1F3D10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05F9E-25B3-4DE9-80CB-1BC23875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8A557-50B1-4534-BDD9-F210FA4D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831C2-B768-42D5-9FD7-EC9D21A1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6E9B4-6633-4738-AAE6-D843496B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A89B2-5B7D-4016-82C4-62D4D53A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B64E9-5EEC-4CDE-B458-A89D6B16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43009-0DA5-4B03-8A65-29735C07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E0431-1C2B-4E80-A653-B0D07DBE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1FF-54EF-4F61-A3F8-80F5AEB1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02E85-0ECE-4D2C-B6EA-D9D0B12E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D71B0-9CB2-4263-B8FF-7FE20DF5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6680A-D1FA-4120-AC0C-BF98817C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09ADB-AD6B-4A50-98D1-A70FE57C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2A7CD-84A4-456C-BF78-9769A54C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CECA-40E0-4816-9574-036164AC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2DA0-72C3-425D-AC88-B5F79536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A4F0-858A-46A9-A0D1-FF3FD2EC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79CB-18B9-4FE4-A117-1C3793F3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0214A-A60D-40A8-8922-B48E3113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E03-122D-4714-9BD7-72A9BC62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02BBC-CA39-4382-9C70-534FB889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4442-DA84-4B2D-BBE3-9325F5B7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CE6B-9D92-43B2-9A2D-170EBAD4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CADD-CB38-4258-90B1-C2F0360B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9EE4-BD83-44C6-B65A-5F36BA9D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535C1-811F-4215-849A-D7A3C899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CACB-D5BA-4ECB-9986-9533C397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04B0-F9BF-425C-B960-9B5839DD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EF4C9-4931-49B6-915F-1D80A189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3CCAD-9E55-47AC-83FE-F4DCE81E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209-C7F0-4BD0-B57C-72E367DF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55C21-F343-45D8-BAE6-C82B0F21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100CD-31C3-43FE-98C6-3F892A25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3B2A6-9F4B-436C-BD72-B7395047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80EC4-73FC-47BF-BF53-308AC012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C0C5B-970F-4FA3-A4FA-00505C0D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6D0EA-FC13-4163-9AE3-878241FD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E944-C506-4801-A7EF-76B53B88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CF36-0F61-4EF4-BE52-B31ED060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5FA79-665F-4099-8743-25980E50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854EF-C74C-4CF6-B91A-C13B45F5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C22-DCC2-4F9A-9118-1A113933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C486A-F410-4266-87FD-AA245CA5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AAA34-A3DB-4258-83F8-69001838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9E1C8-CC80-4125-96FB-FA893491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622A8-FE21-4F38-9DA9-2C8D08B1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1D687-B95B-428E-B4AE-D4D8E5AF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1E223-0DCA-4ABF-8DBD-6D1A9A0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58527-BC76-4672-B838-65581275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04986-1245-450B-A94E-7EB6A5AA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4BE9F-58D4-45D1-AF7A-B72B7594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7AC71-BA35-43C1-B96C-989D42B3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F79-66E4-4D47-9DFF-4B932497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AC519-C451-48C7-A979-6B0DB358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A5F3B-C143-4CB2-84C8-4EEF3CD6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F2D24-FA47-4272-9C55-1802C2D7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B71E6-336C-4DAE-A764-73F4665E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3376B-5B8F-471D-A500-E59282E9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34916-FB4F-4D6D-9AD5-C64714BC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7E518-DFFA-4AB1-B3F9-72B00076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64F51-76AB-4344-9C57-8EAA683B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FE313-7964-43A4-9395-901B133C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30042-719C-4E6C-A9FC-9657E915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DA0-71C2-41F0-84CD-A48BD8C9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989CB-2E14-4EDC-82D1-A3674AFF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0E5B3-5465-4893-BB3E-DC71CCEB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0492C-C6EB-4346-81F9-9641C5BB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7CC4D-C863-4FBA-BE88-F0CD63A4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6D046-7ECA-4977-AFC8-DECAC855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1E6CF-F1AD-4DA8-9E80-B8D10B83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711A3-1858-4E49-8814-880020C7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26DFC-7A3C-4E69-B63F-3DD95951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B22C0-E57C-411E-9E27-E14F4AC4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02D2C-6003-4307-8891-2131D7CB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054-B6B7-4B77-BB3F-8A519631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6E1DA-E111-472C-B22F-75EBC22F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01747-EF8B-4FCB-96F2-D8E151F4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26B75-DC36-48B8-85A9-ACF7E8B1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08648-2169-45FF-82F3-A32FF710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7CEE4-9263-4499-BBE3-17B92EC2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C18DC-ED00-489B-9B32-C5D4ABEE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DD4A2-205C-42EB-A898-45741E3A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8E76E-8D97-4FEC-BA37-C9078D89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45195-7F0F-4618-AB7C-A9853EF1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A7AD9-05A4-4A3C-B699-49F57BBE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1C8-75E8-4D02-A212-88F80596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B0082-CE7A-4800-A158-6C71EE8A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5066A-6FE1-4084-8FA1-FE86C482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EF3BF-AB67-461D-9DF7-CA3D0959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97D6B-C0F4-4736-99E6-23F12DE8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9CEE7-41CD-4C50-B3F6-99A5D656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96E8C-C8C1-4E42-9691-85D6CA21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B00A7-900E-4460-BC30-2BCE8CF5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04280-E71E-4ED9-BE29-217393D7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73DFB-F9C0-4877-8F3B-FEF47355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EA06C-7AF0-4E6E-B81D-D732D26B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9063-774F-49E0-932E-EE48F3215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1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1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3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721E-9513-44DC-872A-FAA739F4559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0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0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1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1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2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2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2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3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3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99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9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0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1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1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0C47-E77D-487F-9121-3B713540817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08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8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8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9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09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09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0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0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0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0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1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1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1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2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2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2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3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3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3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3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4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4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6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6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6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7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7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7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8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8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8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9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19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19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20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5B5A-BB22-43A4-AFB8-72F35CA34DC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A914-68D8-42F2-AF10-90C7A58A6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E478-F703-460B-BFB9-EDECDC2907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C262-52D6-4438-9231-A6ADE172DA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AC3B-DDED-4881-8CB2-48A083E055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3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3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97F4-C6DB-4107-B047-76E5919776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5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7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797-6B93-47A3-B075-F0483B6D92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3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3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4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5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7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A5E5-548E-4F61-9C7B-5CEA459CD7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2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2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4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4BA3-C80D-4468-8FE1-944F97F235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Es una mans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Alison Flah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12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Jard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un jardin. Es muy bello!!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Fin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286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mansion. Es muy grande y fabul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1" name="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1814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cocina. Es muy mode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1911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4762440" cy="42670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omedor. Es muy grande y purpu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9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476600" cy="46483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uarto. Es muy incre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190760" cy="48769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Bañ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una baño. Es muy increibl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6641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Sal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una sala. Es muy bonita y anaranja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19720" cy="47149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Ba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ñ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a b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ñ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. Es muy lujoso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4038480" cy="46483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l Pati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patio. Es muy lujo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36:29Z</dcterms:created>
  <dc:creator>flahertyali</dc:creator>
  <dc:description/>
  <dc:language>en-US</dc:language>
  <cp:lastModifiedBy>flahertyali</cp:lastModifiedBy>
  <dcterms:modified xsi:type="dcterms:W3CDTF">2011-03-31T17:26:22Z</dcterms:modified>
  <cp:revision>3</cp:revision>
  <dc:subject/>
  <dc:title>Es una masion</dc:title>
</cp:coreProperties>
</file>